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C4AD-7538-47C1-A201-84A2BE45F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7297-96A9-41DA-9C41-218EC2C7F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neurosciencenews.com/neuronal-diversity-vital-brain-func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EC46-B6DC-487B-8FCC-90D569B32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ciencegeek.net/Biology/review/U8Homeostasis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receptor, afferent neuron, interneuron, efferent neuron, effector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Khan academ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www.khanacademy.org/science/health-and-medicine/nervous-system-and-sensory-infor/neuron-membrane-potentials-2014-03-27T17:58:17.207Z/v/neuron-resting-potential-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CC84-BAC7-4846-8063-E6D2899A0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n left: http://www.feelingsoulgood.com/wp-content/uploads/2014/10/Nervous-system-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n right: http://i.imgur.com/x5m17Qb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DD74-F55B-4CEA-990B-6AD9DDBCC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58D0-101B-4DDA-85CE-7E995E64B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Nervous_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controls skeletal muscle, bones,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division is VOLU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ed of SENSORY nerves (relay information about env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to the CNS) and MOTOR nerves (initiate the appropriate respon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6934-861A-4142-9AFF-8DFD8BB36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biologyreference.com/photos/neuron-376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A609-60A8-484E-A483-03D253EB1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slideshare.net/racheleasaw/fbiology-form-5chp-3-coordination-and-response3-2-the-role-of-the-human-nervous-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4678-D399-4EC4-9BBD-0FBD6E12F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C95E-8721-4826-A284-676C9D92F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mikerbio.weebly.com/uploads/3/0/8/1/30813293/547482430.jpg?9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qph.is.quoracdn.net/main-qimg-408c8c4cfd55c3098df4edbdae8a8a6d?convert_to_webp=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272C-1355-41F2-A655-56BA2AA00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C7FA-AFA1-4EF2-AD85-F2A660B83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highlands.edu/academics/divisions/scipe/biology/faculty/harnden/2121/images/neuroglialpn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67D-33B8-495E-979B-9BD3A3F8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E4FC-ABAD-4515-84EF-0518C844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66A-8C1C-4CCA-B4A3-2F1DABB2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E087-43B4-4A2A-83F3-318D22FB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D64-B480-4229-B505-2C6CC00D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B80-63C3-4916-8068-1B11C877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28F-53E8-42A5-84AA-5271CA08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4D7-AB65-45F5-9C38-E706A2DC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312-5BCA-43DD-91A6-B1EBDE03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ADC-DFCD-492E-9F22-A5BD67BE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8C7-D1AA-44BE-BF33-D1A00993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743-2DED-40BD-99CE-3690EA8F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4DFF-7FFC-412A-B193-AB91447F1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khanacademy.org/science/health-and-medicine/nervous-system-and-sensory-infor/neuron-membrane-potentials-2014-03-27T17:58:17.207Z/v/neuron-resting-potential-descriptio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2590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ole of the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4211640" y="5516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x A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al circuit that travels through the spinal cord, but does not require the coordination of the brain, e.g., reflex when you touch something h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6" descr="ReflexArc.jpg"/>
          <p:cNvPicPr/>
          <p:nvPr/>
        </p:nvPicPr>
        <p:blipFill>
          <a:blip r:embed="rId1"/>
          <a:srcRect l="0" t="-11203" r="0" b="-11203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e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pare for 11.2, which details how nerve impulses are transmitted, let’s visit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han Academ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watch the “Neuron resting potential” and “Neuron action potential descrip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8" descr="Nervous-system-.jpg"/>
          <p:cNvPicPr/>
          <p:nvPr/>
        </p:nvPicPr>
        <p:blipFill>
          <a:blip r:embed="rId1"/>
          <a:srcRect l="3704" t="0" r="3704" b="0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7" descr="x5m17Qb.png"/>
          <p:cNvPicPr/>
          <p:nvPr/>
        </p:nvPicPr>
        <p:blipFill>
          <a:blip r:embed="rId2"/>
          <a:srcRect l="-11722" t="0" r="-11722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450px-NSdiagram"/>
          <p:cNvPicPr/>
          <p:nvPr/>
        </p:nvPicPr>
        <p:blipFill>
          <a:blip r:embed="rId1"/>
          <a:stretch/>
        </p:blipFill>
        <p:spPr>
          <a:xfrm>
            <a:off x="1244520" y="609480"/>
            <a:ext cx="6654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nerv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units of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organisms to receive &amp; respond to internal &amp; external stimu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ontent Placeholder 6" descr="neuron-3761.jpg"/>
          <p:cNvPicPr/>
          <p:nvPr/>
        </p:nvPicPr>
        <p:blipFill>
          <a:blip r:embed="rId1"/>
          <a:srcRect l="15270" t="0" r="15270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al Sign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erent neur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nsory neurons) receive stimu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ur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 brain &amp; spinal cord) receive messages transmitted from afferent neurons; process messages &amp; determin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 transmitt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rent neur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tor neurons) and then to eff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3" descr="fbiology-form-5chp-3-coordination-and-response3-2-the-role-of-the-human-nervous-system-35-728.jpg"/>
          <p:cNvPicPr/>
          <p:nvPr/>
        </p:nvPicPr>
        <p:blipFill>
          <a:blip r:embed="rId1"/>
          <a:srcRect l="0" t="2042" r="0" b="2042"/>
          <a:stretch/>
        </p:blipFill>
        <p:spPr>
          <a:xfrm>
            <a:off x="539640" y="476280"/>
            <a:ext cx="8209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Neu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2" descr="547482430.jpg"/>
          <p:cNvPicPr/>
          <p:nvPr/>
        </p:nvPicPr>
        <p:blipFill>
          <a:blip r:embed="rId1"/>
          <a:srcRect l="0" t="-8601" r="0" b="-860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e Fib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8" descr="main-qimg-408c8c4cfd55c3098df4edbdae8a8a6d.png"/>
          <p:cNvPicPr/>
          <p:nvPr/>
        </p:nvPicPr>
        <p:blipFill>
          <a:blip r:embed="rId1"/>
          <a:srcRect l="-81834" t="0" r="-81834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n Suppor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ial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nutrition and support, e.g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wann cells for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elin she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surround and insulate ax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ps are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des of Ranv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ontent Placeholder 2" descr="neuroglialpns.jpg"/>
          <p:cNvPicPr/>
          <p:nvPr/>
        </p:nvPicPr>
        <p:blipFill>
          <a:blip r:embed="rId1"/>
          <a:srcRect l="-33607" t="0" r="-33607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0:01:39Z</dcterms:created>
  <dc:creator>rubina khan</dc:creator>
  <dc:description/>
  <dc:language>en-US</dc:language>
  <cp:lastModifiedBy>rubina khan</cp:lastModifiedBy>
  <dcterms:modified xsi:type="dcterms:W3CDTF">2017-05-10T12:29:14Z</dcterms:modified>
  <cp:revision>135</cp:revision>
  <dc:subject/>
  <dc:title>The Importance of the Nervous System</dc:title>
</cp:coreProperties>
</file>